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FF6-7C9C-4F8D-A749-5B868FAB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3B4-E5C8-4729-9F7F-E9F852B0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E11-66F9-4061-A92A-8FEAC58D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C7C-B339-4E35-B17D-372EB817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CBE-388F-4031-BBCC-6B9023EB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C5A-7E0B-402A-971E-CE2A1265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359-A0B6-49D4-831D-8ED326A6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92B-9401-4FD3-B25E-14C86F6A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A9D-F039-43E6-9454-E46612A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327-7971-46AB-A39A-67D030C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CF4-BFA0-4DB5-9985-539D88A3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5D2-4B54-438C-88A4-4B9A185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D165-F74B-475E-9CAC-3DEA5BD9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fa.gov.il/MFA/MFAArchive/2000_2009/2001/9/Flora%20and%20Fauna%20in%20Israel" TargetMode="External"/><Relationship Id="rId2" Type="http://schemas.openxmlformats.org/officeDocument/2006/relationships/hyperlink" Target="http://www.worldatlas.com/webimage/countrys/asia/il.htm" TargetMode="External"/><Relationship Id="rId3" Type="http://schemas.openxmlformats.org/officeDocument/2006/relationships/hyperlink" Target="http://en.wikipedia.org/wiki/Israel" TargetMode="External"/><Relationship Id="rId4" Type="http://schemas.openxmlformats.org/officeDocument/2006/relationships/hyperlink" Target="https://www.cia.gov/library/publications/the-world-factbook/geos/is.html#Geo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487692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 Pandola &amp; Mallary Hi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0"/>
            <a:ext cx="3657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nap ITC"/>
              </a:rPr>
              <a:t>Israel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ding Barack Obama A L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estine group named Hamas sent letter via US politician visiting G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details about letters’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views Hamas as a terroris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as seized control of Gaza in 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fa.gov.il/MFA/MFAArchive/2000_2009/2001/9/Flora%20and%20Fauna%20in%20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ldatlas.com/webimage/countrys/asia/i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cia.gov/library/publications/the-world-factbook/geos/is.html#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aaretz.com/hasen/spages/96821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Economy_of_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History_of_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56960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Snap ITC"/>
              </a:rPr>
              <a:t>  </a:t>
            </a:r>
            <a:r>
              <a:rPr b="0" lang="en-US" sz="2800" spc="-1" strike="noStrike">
                <a:solidFill>
                  <a:srgbClr val="cc6600"/>
                </a:solidFill>
                <a:latin typeface="Snap ITC"/>
              </a:rPr>
              <a:t>Mostly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Between Egypt and Leba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Slightly smaller than New Jer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350532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Borders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81280" y="304920"/>
            <a:ext cx="533412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nap ITC"/>
              </a:rPr>
              <a:t>The 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e coastal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ling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ber, Potash, Copper Ore, Natural Gas, Phosphate, Magnesium, Clay, 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533520"/>
            <a:ext cx="4838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nap ITC"/>
              </a:rPr>
              <a:t>Natural Resource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mostly desert, vegetation is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ammal wildlife is nocturnal because Israel is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egetation is cac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pecies of reptiles and scorp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304920"/>
            <a:ext cx="762012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Snap ITC"/>
              </a:rPr>
              <a:t>Wildlife and Vege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Snap ITC"/>
              <a:ea typeface="Snap ITC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710560" y="0"/>
            <a:ext cx="433440" cy="5972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80880" cy="597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80880" y="0"/>
            <a:ext cx="8382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5520" y="0"/>
            <a:ext cx="89884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ary Democr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ident is Shimon P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me minister is Ehud Olm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is about 7,112,359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fe expectancy for men is 78 years and women is 8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0"/>
            <a:ext cx="579132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Snap ITC"/>
              </a:rPr>
              <a:t>Govern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d after 55 years of effort to create a Jewish hom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ile:1 New Israeli Sheqel (1994-199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xed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or in natur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s on im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cy – New Israeli She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e Lands 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near the Israel Museum in Jerusa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antiquities from various Middle Eastern cultures mentioned in the 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7:22:38Z</dcterms:created>
  <dc:creator>josephapandola</dc:creator>
  <dc:description/>
  <dc:language>en-US</dc:language>
  <cp:lastModifiedBy>josephapandola</cp:lastModifiedBy>
  <dcterms:modified xsi:type="dcterms:W3CDTF">2009-02-19T17:49:22Z</dcterms:modified>
  <cp:revision>12</cp:revision>
  <dc:subject/>
  <dc:title>Slide 1</dc:title>
</cp:coreProperties>
</file>